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5.jpeg" ContentType="image/jpeg"/>
  <Override PartName="/ppt/media/image31.jpeg" ContentType="image/jpeg"/>
  <Override PartName="/ppt/media/image38.jpeg" ContentType="image/jpeg"/>
  <Override PartName="/ppt/media/image12.jpeg" ContentType="image/jpeg"/>
  <Override PartName="/ppt/media/image44.png" ContentType="image/png"/>
  <Override PartName="/ppt/media/image13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6.jpeg" ContentType="image/jpeg"/>
  <Override PartName="/ppt/media/image11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5D31-9EBF-4320-A55D-3A93BD4DA8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Ожоги. Виды ожо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Солнечные ожо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Тепловой уд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F703-109E-4D59-A1BF-28CD1B0495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ьшить боль и предупредить опасные для жизни ослож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при ожог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божженную поверхность поскорее подставить под струю холодной воды и подержать 5-1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крыть сухой чистой тка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верх ткани приложить холод (пузырь со льдом или пакет с холодной водой или сне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допустимо смазывать повреждённые участки кремами и жирами,  присыпать мукой и крахма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скрывать пузыри и удалять прилипшую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306D-3A1D-431D-A425-B87D3D184A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при ожог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на повреждённую поверхность чистую пленку или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оверх плёнки приложить пакеты со ль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Дать пострадавшему таблетку анальгина (если он в сознан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При длительном ожидании скорой помощи обеспечить пострадавшего обильным тёплым питьё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4747-12C2-482C-9C61-E0068F3EA6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пустим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дирать с поверхности кожи од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крывать пузы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нтовать обожженную поверх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ывать грязь и сажу с поверхности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рабатывать повреждённую поверхность присыпками и спиртосодержащими раств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C19A-E0C0-494C-BC83-77F2643513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хи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1)Если ожог вызван кислот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олько не серной), то можно промыть место ожога струёй холодной воды, а затем щелочным раствором: мыльной водой или раствором пищевой с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2)Если же ожог от щёло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после промывания водой хорошо приложить ткань, смоченную слабым  уксусом или лимонным соком. Перед отправлением в больницу ожог закрывают повяз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3)Если на кожу попал фосф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он вспыхивает. Обожжённое место нужно опустить под воду. Палочкой удалить кусочки фосфора, наложить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4)Когда на кожу попадает негашеная изве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и в коем случае нельзя допускать попадание туда влаги – пойдёт бурная химическая реакция. Обработку ожога производят любым мас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F511-92BC-4AF1-971F-86AD366C87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действ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ического 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лектротравме происходит поражение не только в месте непосредственного воздействия  тока, но страдает и весь организ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сте удара может быть покраснение и потеря чувствительности. Но если сила тока была большой, если действовал он достаточно долго, если кожа была влажной и по ряду других причин, в месте входа и выхода тока могут возникнуть глубокие ожоги, напоминающие крат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CFA1-FFAC-45ED-B01F-75F4958018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действ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ического 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ую очередь необходимо прекратить действие электротока. При этом нужно помнить, что тело поражённого является проводником, и если неосторожно прикоснуться к нему, то оказывающий помощь также получит электротравму. Поэтому лучше всего выключить ток, используя рубильник, электропроб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это невозможно, нужно отвести провод от поражённого при помощи непроводящих ток предметов: деревянной вещи, хлопчатобумажного изделия. Ожоги прикрывают повязкой. В тяжёлых случаях делают искусственное дыхание и непрямой массаж сердца. И как можно скорее в больницу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BAD4-51FC-4E00-953E-5D76B9561F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Удар молн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ар молнией – это мощнейшая электротрав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е явления, происходящие при поражении бытовым электричеством, будут наблюдаться и в этом случае. Но есть и отлич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ражении молнией на коже появляются пятна тёмно-синего цвета, напоминающие разветвление дерева. Это происходит из-за паралича сосудов. Общие явления при поражении молнией также выражены значительнее. Характерно развитие параличей, глухоты, немоты и паралича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2F44-FABA-4720-B90A-1BC1DCC599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ак избежать удара молни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гроза  застаёт в лесу, не следует прятаться под высокими деревьями. Особенно опасны отдельно стоящие дуб , тополь , ель и сосна. В берёзу и клён молния ударяет ред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сь в грозу на открытом месте, лучше присесть в сухую яму или канаву. Тело должно иметь как можно меньший контакт с землё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грозы в горах следует избегать гребней, скальных выступов и других возвышенных точ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7368-AA40-48C9-94FD-9F5C03DF40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пециализированное лечение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1)Закрыт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ом метод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ния на поверхность ожога накладывают повязки с различными веществами (противоожоговая мазь, эмульсия синтомицина, диоксидиновая мазь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2) Открыт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ыт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ния применяют в двух вид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ез обработки поверхности ожога дубящими веществ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 созданием на поверхности ожога корочки (струпа) путем обработки коагулирующими препара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C83C-8281-4EB3-8D0A-6BAB680541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пециализированное лечение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3) Смешенн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нагноения ожоговой поверхности заставляет переходить от открытого к закрытому методу и применению повязок с различными препара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4) Оперативн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мопластические пересадки кожи производят для временного закрытия обширных дефектов при тяжелом состоянии пострадавш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9FEB-4C77-4B45-9933-499FD9D2C2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жогами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ют повреждения, вызванные термической, химической или лучевой энергией. Тяжесть ожога определяется величиной площади и глубиной повреждения тка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изучающая ожоги называетс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мбустиолог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E343-160A-439B-AF4E-0CF68516DB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сновные причины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жоговый шок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ется в связи с раздражением огромного количества нервных элементов обширной области поражения. Чем больше площадь ожога, тем чаще бывает и тяжелее протекает ш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жоговая болезн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ёткой границы между ожоговым шоком и ожоговой болезнью нет. По существу речь идёт об одном и том же явлении. В первые 2-3 суток говорят об ожоговом шоке. На 3-5е сутки, как правило, полностью проявляются перечисленные выше осложнения, и врачи ставят диагноз: ожоговая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25F7-00F9-458D-8802-E74C7C8326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сновные причины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нфекц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звитии инфекции на обожженной поверхности возникают септические явления (септическая фаза болезни), повышается температура тела, появляются ознобы, нарастает лейкоцитоз и нейтрофилез, развивается анемия, язвы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оксемия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ется с первых часов после ожога, постепенно усиливается и после выхода из шока определяет в дальнейшем состояние пострадавшего. В развитии токсемии играет роль всасывание из, зоны ожога продуктов распада тканей, токси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6063-1FE5-4FF9-ADFD-ED7999A680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тапы помощи при тяжелы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Неотложный пери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зависимости от тяжести повреждения занимает от двух дней до двух недель после ожо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стрый пери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чинается сразу же по окончании неотложного и продолжается до тех пор, пока все глубокие повреждения не будут покрыты аутотрансплантатами (лоскутами кожи, взятыми с других участков тела больног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Реабилит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возвращение больного к его обычному образу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80CF-F8CB-466C-8FC5-14D0405EEB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ермическ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ермически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зываются пламенем, горячим воздухом и жидкостями, расплавленным металлом, нагретыми или горящими части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 резкая боль в глазу, блефароспазм, слезотечение, отек век и конъюнктивы, снижение зрения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ложная помощь: необходимо промыть глаза водой, закапать в глаза 20 % раствор сульфацил -натрия; 20 % суль – фапиридазин - натрия; раненую поверхность кожи смазать мазью антибиотика. На глаз накладывается асептическая повязка. Внутримышечно вводят противостолбнячную сыворотку (1500-ЗОООМЕ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A5B2-72A4-4BA9-8F82-C5301899D2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Химически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вают кислотными и щелочными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оги кислотой вызывают быстрое свертывание белка, поэтому в первые часы формируется ограниченный струп. Это предохраняет подлежащиеткани от дальнейшего поражения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Симптомы и теч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алобы на боль, светобоязнь, слезотечение, снижение зрения. Веки гиперемированы, отечны. Роговица становится отечной, тусклой, с сероватым оттенком, в тяжелых случаях приобретает молочный оттенок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ложная помощь: как можно быстрее, в течение 10-15 минут промыть глаза струей воды. В конъюнктивальную полость закапывают 20 % раствор сульфацил-натрия, 10 % раствор сульфапирида-зин-натрия, раствор фурацил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D7C3-B580-4210-A0F0-EA19B609F9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Щелоч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нее благоприятны. Щелочь растворяет белок и беспрепятственно проникает внутрь тканей. Страдает не только кожа, конъюнктива и роговица. Воздействию подвергается радужка, хрусталик и другие ткани гл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отложная помощ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ильное промывание глаз водой в течении 15-30 минут. Если имеются частицы поражающего агента, то необходимо их удалить с помощью тугого ватного тампона или пинцетом, повторно промьггь водой. После этого закапать в глаз раствор антибиотиков, сульфаниламидов. Накладывается сухая асептическая повязка,больной направляется в стациона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7134-92C5-477B-8162-FC6A0C72F8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олнечный ож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 солнечного ожо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вают разные - от порозовения кожи, начинающей "гореть", до покраснения, когда она опухает, покрывается волдырями и становится крайне болезне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е ожоги вовсе не так безобидны, как думают многие. Доказано, что они могут приводить не только к преждевременному старению кожи и развитию фотодерматита (аллергии к солнечным лучам), но и к снижению зрения и даже к онкологическим заболеваниям (раку кож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D272-918B-4761-9C2B-92D7075F96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рофилактическ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Солнцезащитные кр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непроницаемые кремы содержат окисел цинка или диоксид титана, практически полностью блокирующие ультрафиолетовую радиацию. Они хороши для чувствительных участков кожи, таких, как нос и гу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Солнцеотражающ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содержат вещества, частично отражающие ультрафиолетовые лу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ая причина солнечных ожогов - ажиотаж первого дня. Увеличивайте время пребывания на солнце постепенно: переходите от получаса на первый раз до не более чем 2 часа в день. Самое активное солнце с полудня до 2 часов, так что в это время лучше не загор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C70C-51A0-4436-B6FC-B57B8D2069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ЕПЛОВОЙ УДА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лезненное состояние, обусловленное общим перегреванием организма и возникающее в результате воздействия внешних тепловых факторов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больного наблюдается чувство общей слабости, разбитости, головная боль, головокружение, шум в ушах, сонливость, жажда, тошнота. При осмотре выявляется гиперемия кожных покров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383F-E2E1-404C-820C-A46FEBCFD0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ого срочно выносят в прохладное место, обеспечивают доступ свежего воздуха, освобождают от одежды, дают выпить холодной воды, накладывают холодный компресс на гол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ее тяжелых случаях показано обертывание простыней, смоченной холодной водой, обливание прохладной водой, лед на голову и паховые об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о не в коем случае нельзя давать алкоголь, напитки, содержащие теин и кофеин (чай, кофе, кака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B865-DBDD-4AB5-B932-02D19AEA39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Пла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получает ожоги, в основном, от загоревшейся одежды. Синтетические материалы расплавляются и проникают глубоко в кожу, и их потом очень тяжело отделить. Ожоги пламенем неравномерны, носят пятнистый характ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2)В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хорошо впитывает воду, поэтому такие ожоги обычно большие, значительные по площади и больше, чем при первичном контак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3)Контакт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зникают в результате соприкосновения кожи с тверд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ами. Они возникают в 10% случа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84E7-9114-43C7-B3F3-8E08B704B0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Реакция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на жаркую по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у 71°С человек выдерживает в течение 1 часа, 82°С - 49 минут, 93°С - 33 минут, а 104°С - только 26 ми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28 году был описан случай 14-минутного пребывания мужчины в печи, где температура достигала 17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ельгии в 1958 году был зарегистрирован случай, когда человек несколько минут находился в термокамере при температуре 200°С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наженном состоянии человек может выдержать быстрое нарастание температуры до 210°С, а в ватной одежде - до 27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4FD2-837F-44BC-8A22-4FCBBE8B30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4)Ожоги, возникающие при контакте с различными другими веществ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жирами, маслами. Ожоги небольшие по глубине и по площади, так как жиры и масла не растекаются по поверхности кожи, имеют пятнистый характер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5)Вязкие Веществ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(смолой, гудроно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жог вольтовой дугой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ходен с ожогом пламенем. Кожа становится черной из-за импрегнации металл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1975-876E-4F3A-A49B-221658097D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7)Ожоги электрическим то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могут быть от молнии и бытовой (от электроприборов). Ожоги по площади незначительные, о глубокие, повреждаются мышцы и 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2F1B-9823-4127-9C88-C2E26C5A55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Хи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8) Ожоги щелочью и кислот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оги щелочью значительно опаснее, чем кислотой, при котором происходит коагуляция белков и образуется корочка, струп, предотвращающая проникновение в глубокие сло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9)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званные алкалоидами растений, например относящихся к семейству лютиковых подснежн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0) Ожоги фосфором и изве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1ECC-0A98-43F9-BF84-14EF4AAB45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Лучевы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11)Радиацион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ключаются в себя: ожоги УФ-излуч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Ф-излучение вызывает 2 вида повреждений: рак кожи и подавление иммунной систем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ое излучение оказывает основное действие на кроветворную, иммунную, центральную нервную систем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8795-EFDE-468D-AA86-82F53C69CB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лассификация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проявляются резко выраженной краснотой кожи и отеком тканей, сопровождаются жгучей болью и поражением верхних слоёв ко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- Кроме выраженных симптомов, отмеченных при 1степени, отмечается образование пузырей наполненных серозной жидк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страдают все слои ко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ное разрушение кожи и нижележащего мышечного сло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сопровождаются некрозом более глубоких слоев тканей и обугливанием кожи или даже органа, омертвением не только кожи, но и глубжележащих тка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516E-FE23-4D88-A3E8-B0BDAEE13D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Для 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диагноза нужно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щадь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о лад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о девя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Глубина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лощадь поражения кожи превышает 10% - следует ожидать развития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968A-2814-4D22-A259-DC28CC990A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46F0-46B0-4151-96E3-CB8292FA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43F-67BF-4DE2-8382-12B56111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8617-8E62-4B6D-A8AD-7E80E1E2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808-29F7-4A9F-8091-DE72E5A9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35A5-E619-466D-AFA3-A2BCA27E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35B7-7509-4124-B186-C387D674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DADF-6962-4235-A295-FB50C31F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43D2-9481-4AFC-9F93-F7E171D6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FB71-EA62-43DF-AD42-9A16FCF6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6B33-EE3F-4871-9221-317779E3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15C3-9068-4881-9AF1-EFE02960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82E-3492-4489-A177-EB8C365B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CBA2-FE7C-4729-B7A9-DF777864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6326-45EC-4F31-B598-CA29A17D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6B6A-C90B-41E7-AA24-2571C3F2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CCF4-2692-40D1-9A4B-A8782FCD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3033-44DE-4ADC-9F0E-9BA8DCDB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F478-DF90-4509-91A6-77198E75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803C-7481-466D-9633-832308D0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E11C-7A11-4E64-88B1-E07FBE94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BF9-F00B-4349-BF17-58919325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7D0E-7A09-4F9A-A160-525CBDA5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777B-5A8C-41E2-9107-6234F759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9880-6759-482C-A49A-87CC0C39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F0B3-56FB-4CCE-B15C-5A0291E94E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82EF-38E2-4474-A3D1-073EC6B36D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971640" y="2133720"/>
            <a:ext cx="7632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жоги. Виды ожогов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ечные ожоги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пловой удар.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395280" y="1197000"/>
            <a:ext cx="92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ьшить боль и предупредить опасные для жизни осло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403280" y="1773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1798560" cy="1295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6659640" y="3284640"/>
            <a:ext cx="1871640" cy="1439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1798560" cy="1366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2484360" y="256536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божженную поверхность поскорее подставить под струю холодной воды и подержать 5-10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556000" y="3789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Накрыть сухой чистой тка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556000" y="450864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оверх ткани приложить холод (пузырь со льдом или пакет с холодной водой или снег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1187280" y="566100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допустимо смазывать повреждённые участки кремами и жирами,  присыпать мукой и крахм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скрывать пузыри и удалять прилипшую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12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1332000" y="1700280"/>
            <a:ext cx="7056360" cy="649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1187280" y="5661000"/>
            <a:ext cx="6840720" cy="93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1614240" y="1557360"/>
            <a:ext cx="59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00000" y="2205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жить на повреждённую поверхность чистую пленку или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564000" y="37893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оверх плёнки приложить пакеты со ль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835280" y="4941720"/>
            <a:ext cx="64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Дать пострадавшему таблетку анальгина (если он в созна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При длительном ожидании скорой помощи обеспечить пострадавшего обильным тёплым пить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580000" y="2060640"/>
            <a:ext cx="1817640" cy="1751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2"/>
          <a:stretch/>
        </p:blipFill>
        <p:spPr>
          <a:xfrm>
            <a:off x="1476360" y="3068640"/>
            <a:ext cx="1846440" cy="1714320"/>
          </a:xfrm>
          <a:prstGeom prst="rect">
            <a:avLst/>
          </a:prstGeom>
          <a:ln w="0">
            <a:noFill/>
          </a:ln>
        </p:spPr>
      </p:pic>
      <p:sp>
        <p:nvSpPr>
          <p:cNvPr id="184" name="WordArt 9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1619280" y="1484280"/>
            <a:ext cx="5905440" cy="504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"/>
          <p:cNvSpPr/>
          <p:nvPr/>
        </p:nvSpPr>
        <p:spPr>
          <a:xfrm>
            <a:off x="1547640" y="2133720"/>
            <a:ext cx="60501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допустим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дирать с поверхности кожи одеж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крывать пузы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интовать обожженную поверх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мывать грязь и сажу с поверхности кож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рабатывать повреждённую поверхность присыпками и спиртосодержащими раство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4"/>
          <p:cNvSpPr txBox="1"/>
          <p:nvPr/>
        </p:nvSpPr>
        <p:spPr>
          <a:xfrm>
            <a:off x="1332000" y="54936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547640" y="2133720"/>
            <a:ext cx="6120000" cy="374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4"/>
          <p:cNvSpPr txBox="1"/>
          <p:nvPr/>
        </p:nvSpPr>
        <p:spPr>
          <a:xfrm>
            <a:off x="1042920" y="333360"/>
            <a:ext cx="685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хи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24000" y="1197000"/>
            <a:ext cx="5616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)Если ожог вызван кислот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только не серной), то можно промыть место ожога струёй холодной воды, а затем щелочным раствором: мыльной водой или раствором пищевой с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2843280" y="2564640"/>
            <a:ext cx="6551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)Если же ожог от щёло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осле промывания водой хорошо приложить ткань, смоченную слабым  уксусом или лимонным соком. Перед отправлением в больницу ожог закрывают повяз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179280" y="3933000"/>
            <a:ext cx="68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)Если на кожу попал фосф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он вспыхивает. Обожжённое место нужно опустить под воду. Палочкой удалить кусочки фосфора, наложить повя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2195640" y="5012280"/>
            <a:ext cx="6589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)Когда на кожу попадает негашеная изве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и в коем случае нельзя допускать попадание туда влаги – пойдёт бурная химическая реакция. Обработку ожога производят любым мас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гл"/>
          <p:cNvPicPr/>
          <p:nvPr/>
        </p:nvPicPr>
        <p:blipFill>
          <a:blip r:embed="rId1"/>
          <a:stretch/>
        </p:blipFill>
        <p:spPr>
          <a:xfrm>
            <a:off x="6156360" y="1197000"/>
            <a:ext cx="1224000" cy="144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фосфор"/>
          <p:cNvPicPr/>
          <p:nvPr/>
        </p:nvPicPr>
        <p:blipFill>
          <a:blip r:embed="rId2"/>
          <a:stretch/>
        </p:blipFill>
        <p:spPr>
          <a:xfrm>
            <a:off x="6588000" y="378936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известь"/>
          <p:cNvPicPr/>
          <p:nvPr/>
        </p:nvPicPr>
        <p:blipFill>
          <a:blip r:embed="rId3"/>
          <a:stretch/>
        </p:blipFill>
        <p:spPr>
          <a:xfrm>
            <a:off x="611280" y="501336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джэ"/>
          <p:cNvPicPr/>
          <p:nvPr/>
        </p:nvPicPr>
        <p:blipFill>
          <a:blip r:embed="rId4"/>
          <a:stretch/>
        </p:blipFill>
        <p:spPr>
          <a:xfrm>
            <a:off x="611280" y="249228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1042920" y="19238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лектротравме происходит поражение не только в месте непосредственного воздействия  тока, но страдает и весь орган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971640" y="42390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сте удара может быть покраснение и потеря чувствительности. Но если сила тока была большой, если действовал он достаточно долго, если кожа была влажной и по ряду других причин, в месте входа и выхода тока могут возникнуть глубокие ожоги, напоминающие крат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971640" y="2111400"/>
            <a:ext cx="770580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ую очередь необходимо прекратить действие электротока. При этом нужно помнить, что тело поражённого является проводником, и если неосторожно прикоснуться к нему, то оказывающий помощь также получит электротравму. Поэтому лучше всего выключить ток, используя рубильник, электропроб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900000" y="4843440"/>
            <a:ext cx="808848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это невозможно, нужно отвести провод от поражённого при помощи непроводящих ток предметов: деревянной вещи, хлопчатобумажного изделия. Ожоги прикрывают повязкой. В тяжёлых случаях делают искусственное дыхание и непрямой массаж сердца. И как можно скорее в больницу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4"/>
          <p:cNvSpPr txBox="1"/>
          <p:nvPr/>
        </p:nvSpPr>
        <p:spPr>
          <a:xfrm>
            <a:off x="2195640" y="549360"/>
            <a:ext cx="446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дар молние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484360" y="465300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ражении молнией на коже появляются пятна тёмно-синего цвета, напоминающие разветвление дерева. Это происходит из-за паралича сосудов. Общие явления при поражении молнией также выражены значительнее. Характерно развитие параличей, глухоты, немоты и паралич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258920" y="155736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р молнией – это мощнейшая электротрав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611280" y="213372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се явления, происходящие при поражении бытовым электричеством, будут наблюдаться и в этом случае. Но есть и отли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мол"/>
          <p:cNvPicPr/>
          <p:nvPr/>
        </p:nvPicPr>
        <p:blipFill>
          <a:blip r:embed="rId1"/>
          <a:stretch/>
        </p:blipFill>
        <p:spPr>
          <a:xfrm>
            <a:off x="4932360" y="2060640"/>
            <a:ext cx="3240000" cy="2422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мол1"/>
          <p:cNvPicPr/>
          <p:nvPr/>
        </p:nvPicPr>
        <p:blipFill>
          <a:blip r:embed="rId2"/>
          <a:stretch/>
        </p:blipFill>
        <p:spPr>
          <a:xfrm>
            <a:off x="755640" y="3789360"/>
            <a:ext cx="1528920" cy="21607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4"/>
          <p:cNvSpPr txBox="1"/>
          <p:nvPr/>
        </p:nvSpPr>
        <p:spPr>
          <a:xfrm>
            <a:off x="1332000" y="404640"/>
            <a:ext cx="6410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избежать удара молнией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468360" y="155700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гроза  застаёт в лесу, не следует прятаться под высокими деревьями. Особенно опасны отдельно стоящие дуб , тополь , ель и сосна. В берёзу и клён молния ударяет ред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W12"/>
          <p:cNvPicPr/>
          <p:nvPr/>
        </p:nvPicPr>
        <p:blipFill>
          <a:blip r:embed="rId1"/>
          <a:stretch/>
        </p:blipFill>
        <p:spPr>
          <a:xfrm>
            <a:off x="5940360" y="1268280"/>
            <a:ext cx="2774880" cy="20815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3276720" y="342864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ясь в грозу на открытом месте, лучше присесть в сухую яму или канаву. Тело должно иметь как можно меньший контакт с землё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File0107"/>
          <p:cNvPicPr/>
          <p:nvPr/>
        </p:nvPicPr>
        <p:blipFill>
          <a:blip r:embed="rId2"/>
          <a:stretch/>
        </p:blipFill>
        <p:spPr>
          <a:xfrm>
            <a:off x="468360" y="2997360"/>
            <a:ext cx="2663640" cy="2232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9"/>
          <p:cNvSpPr/>
          <p:nvPr/>
        </p:nvSpPr>
        <p:spPr>
          <a:xfrm>
            <a:off x="1258920" y="544464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ремя грозы в горах следует избегать гребней, скальных выступов и других возвышенных т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Утес"/>
          <p:cNvPicPr/>
          <p:nvPr/>
        </p:nvPicPr>
        <p:blipFill>
          <a:blip r:embed="rId3"/>
          <a:stretch/>
        </p:blipFill>
        <p:spPr>
          <a:xfrm>
            <a:off x="5940360" y="4365720"/>
            <a:ext cx="2671920" cy="20876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539640" y="1557360"/>
            <a:ext cx="496908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1)За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ытом мето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на поверхность ожога накладывают повязки с различными веществами (противоожоговая мазь, эмульсия синтомицина, диоксидиновая мазь и 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708360" y="3860640"/>
            <a:ext cx="52196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 От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ый мет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применяют в двух вид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ез обработки поверхности ожога дубящими вещест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 созданием на поверхности ожога корочки (струпа) путем обработки коагулирующи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050920" y="6597720"/>
            <a:ext cx="41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00000" y="5950080"/>
            <a:ext cx="40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7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9" name="Picture 8" descr="9851"/>
          <p:cNvPicPr/>
          <p:nvPr/>
        </p:nvPicPr>
        <p:blipFill>
          <a:blip r:embed="rId1"/>
          <a:stretch/>
        </p:blipFill>
        <p:spPr>
          <a:xfrm>
            <a:off x="5651640" y="1628640"/>
            <a:ext cx="2808000" cy="2232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445315_20020714153547"/>
          <p:cNvPicPr/>
          <p:nvPr/>
        </p:nvPicPr>
        <p:blipFill>
          <a:blip r:embed="rId2"/>
          <a:stretch/>
        </p:blipFill>
        <p:spPr>
          <a:xfrm>
            <a:off x="611280" y="3933720"/>
            <a:ext cx="2879640" cy="215100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2195640" y="4292640"/>
            <a:ext cx="5041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 Оператив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мопластические пересадки кожи производят для временного закрытия обширных дефектов при тяжелом состоянии пострадавш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68360" y="1916280"/>
            <a:ext cx="4392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 Смешен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гноения ожоговой поверхности заставляет переходить от открытого к закрытому методу и применению повязок с различны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5" name="Picture 6" descr="ит"/>
          <p:cNvPicPr/>
          <p:nvPr/>
        </p:nvPicPr>
        <p:blipFill>
          <a:blip r:embed="rId1"/>
          <a:stretch/>
        </p:blipFill>
        <p:spPr>
          <a:xfrm>
            <a:off x="5435640" y="1916280"/>
            <a:ext cx="2663640" cy="21207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2411280" y="476280"/>
            <a:ext cx="3889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58920" y="1772640"/>
            <a:ext cx="8785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ами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ывают повреждения, вызванные термической, химической или лучевой энергией. Тяжесть ожога определяется величиной площади и глубиной повреждения тка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788000" y="529992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ка изучающая ожоги называетс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бусти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т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64000" y="2781360"/>
            <a:ext cx="2592720" cy="217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шрамы от ожогов 3 степени"/>
          <p:cNvPicPr/>
          <p:nvPr/>
        </p:nvPicPr>
        <p:blipFill>
          <a:blip r:embed="rId2"/>
          <a:stretch/>
        </p:blipFill>
        <p:spPr>
          <a:xfrm>
            <a:off x="1116000" y="3357720"/>
            <a:ext cx="2344680" cy="27352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395280" y="1700280"/>
            <a:ext cx="543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овый шок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ется в связи с раздражением огромного количества нервных элементов обширной области поражения. Чем больше площадь ожога, тем чаще бывает и тяжелее протекает ш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6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2987640" y="4005360"/>
            <a:ext cx="5797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жоговая болезн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ёткой границы между ожоговым шоком и ожоговой болезнью нет. По существу речь идёт об одном и том же явлении. В первые 2-3 суток говорят об ожоговом шоке. На 3-5е сутки, как правило, полностью проявляются перечисленные выше осложнения, и врачи ставят диагноз: ожоговая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лдлжож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5651640" y="170028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images"/>
          <p:cNvPicPr/>
          <p:nvPr/>
        </p:nvPicPr>
        <p:blipFill>
          <a:blip r:embed="rId2"/>
          <a:stretch/>
        </p:blipFill>
        <p:spPr>
          <a:xfrm>
            <a:off x="684360" y="3716280"/>
            <a:ext cx="1942920" cy="192420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4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68360" y="1557360"/>
            <a:ext cx="5400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фекц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азвитии инфекции на обожженной поверхности возникают септические явления (септическая фаза болезни), повышается температура тела, появляются ознобы, нарастает лейкоцитоз и нейтрофилез, развивается анемия, язвы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51280" y="4005360"/>
            <a:ext cx="504036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ксем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ется с первых часов после ожога, постепенно усиливается и после выхода из шока определяет в дальнейшем состояние пострадавшего. В развитии токсемии играет роль всасывание из, зоны ожога продуктов распада тканей, токс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ораьлор"/>
          <p:cNvPicPr/>
          <p:nvPr/>
        </p:nvPicPr>
        <p:blipFill>
          <a:blip r:embed="rId1"/>
          <a:stretch/>
        </p:blipFill>
        <p:spPr>
          <a:xfrm>
            <a:off x="5867280" y="1773360"/>
            <a:ext cx="2409840" cy="1971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аологдл"/>
          <p:cNvPicPr/>
          <p:nvPr/>
        </p:nvPicPr>
        <p:blipFill>
          <a:blip r:embed="rId2"/>
          <a:stretch/>
        </p:blipFill>
        <p:spPr>
          <a:xfrm>
            <a:off x="1187280" y="3500280"/>
            <a:ext cx="2073600" cy="25927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"/>
          <p:cNvSpPr/>
          <p:nvPr/>
        </p:nvSpPr>
        <p:spPr>
          <a:xfrm>
            <a:off x="1042920" y="1699920"/>
            <a:ext cx="72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отложн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зависимости от тяжести повреждения занимает от двух дней до двух недель после ожо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995640" y="2637000"/>
            <a:ext cx="48974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стр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чинается сразу же по окончании неотложного и продолжается до тех пор, пока все глубокие повреждения не будут покрыты аутотрансплантатами (лоскутами кожи, взятыми с других участков тела больног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116000" y="5084280"/>
            <a:ext cx="770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абилит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возвращение больного к его обычному образу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7"/>
          <p:cNvSpPr txBox="1"/>
          <p:nvPr/>
        </p:nvSpPr>
        <p:spPr>
          <a:xfrm>
            <a:off x="755640" y="549360"/>
            <a:ext cx="7677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апы помощи при тяжелы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3" name="Picture 11" descr="огл"/>
          <p:cNvPicPr/>
          <p:nvPr/>
        </p:nvPicPr>
        <p:blipFill>
          <a:blip r:embed="rId1"/>
          <a:stretch/>
        </p:blipFill>
        <p:spPr>
          <a:xfrm>
            <a:off x="1258920" y="2565360"/>
            <a:ext cx="2160720" cy="205272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5"/>
          <p:cNvSpPr/>
          <p:nvPr/>
        </p:nvSpPr>
        <p:spPr>
          <a:xfrm>
            <a:off x="3059280" y="1268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ерм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68360" y="1560240"/>
            <a:ext cx="8424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р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ываются пламенем, горячим воздухом и жидкостями, расплавленным металлом, нагретыми или горящими части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4427640" y="2923920"/>
            <a:ext cx="4321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 резкая боль в глазу, блефароспазм, слезотечение, отек век и конъюнктивы, снижение зрения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324000" y="5013360"/>
            <a:ext cx="864072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необходимо промыть глаза водой, закапать в глаза 20 % раствор сульфацил -натрия; 20 % суль – фапиридазин - натрия; раненую поверхность кожи смазать мазью антибиотика. На глаз накладывается асептическая повязка. Внутримышечно вводят противостолбнячную сыворотку (1500-ЗОООМЕ)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9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0" name="Picture 10" descr="хим ож"/>
          <p:cNvPicPr/>
          <p:nvPr/>
        </p:nvPicPr>
        <p:blipFill>
          <a:blip r:embed="rId1"/>
          <a:stretch/>
        </p:blipFill>
        <p:spPr>
          <a:xfrm>
            <a:off x="1547640" y="2637000"/>
            <a:ext cx="1944720" cy="19443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3"/>
          <p:cNvSpPr/>
          <p:nvPr/>
        </p:nvSpPr>
        <p:spPr>
          <a:xfrm>
            <a:off x="1549800" y="1340640"/>
            <a:ext cx="61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и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кислотными и щелочным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24000" y="1844280"/>
            <a:ext cx="86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кислотой вызывают быстрое свертывание белка, поэтому в первые часы формируется ограниченный струп. Это предохраняет подлежащиеткани от дальнейшего поражени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995640" y="2736360"/>
            <a:ext cx="482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мптомы и теч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алобы на боль, светобоязнь, слезотечение, снижение зрения. Веки гиперемированы, отечны. Роговица становится отечной, тусклой, с сероватым оттенком, в тяжелых случаях приобретает молочный оттенок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95280" y="5084640"/>
            <a:ext cx="8532720" cy="119124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как можно быстрее, в течение 10-15 минут промыть глаза струей воды. В конъюнктивальную полость закапывают 20 % раствор сульфацил-натрия, 10 % раствор сульфапирида-зин-натрия, раствор фурацил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ьбоб"/>
          <p:cNvPicPr/>
          <p:nvPr/>
        </p:nvPicPr>
        <p:blipFill>
          <a:blip r:embed="rId1"/>
          <a:stretch/>
        </p:blipFill>
        <p:spPr>
          <a:xfrm>
            <a:off x="826920" y="285264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267" name="WordArt 8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468360" y="1512000"/>
            <a:ext cx="8675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Щелоч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ее благоприятны. Щелочь растворяет белок и беспрепятственно проникает внутрь тканей. Страдает не только кожа, конъюнктива и роговица. Воздействию подвергается радужка, хрусталик и другие ткани гл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324000" y="4784760"/>
            <a:ext cx="8497800" cy="177048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тложная помощ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ильное промывание глаз водой в течении 15-30 минут. Если имеются частицы поражающего агента, то необходимо их удалить с помощью тугого ватного тампона или пинцетом, повторно промьггь водой. После этого закапать в глаз раствор антибиотиков, сульфаниламидов. Накладывается сухая асептическая повязка,больной направляется в стациона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2" name="Picture 6" descr="ожог глаз канцелярским клеем"/>
          <p:cNvPicPr/>
          <p:nvPr/>
        </p:nvPicPr>
        <p:blipFill>
          <a:blip r:embed="rId1"/>
          <a:stretch/>
        </p:blipFill>
        <p:spPr>
          <a:xfrm>
            <a:off x="5940360" y="2565360"/>
            <a:ext cx="2025720" cy="2025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ернп"/>
          <p:cNvPicPr/>
          <p:nvPr/>
        </p:nvPicPr>
        <p:blipFill>
          <a:blip r:embed="rId2"/>
          <a:stretch/>
        </p:blipFill>
        <p:spPr>
          <a:xfrm>
            <a:off x="1979640" y="2708280"/>
            <a:ext cx="1728720" cy="180036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1042920" y="1844640"/>
            <a:ext cx="72010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 солнечного ожо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разные - от порозовения кожи, начинающей "гореть", до покраснения, когда она опухает, покрывается волдырями и становится крайне болезне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4427640" y="3357720"/>
            <a:ext cx="47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ечные ожоги вовсе не так безобидны, как думают многие. Доказано, что они могут приводить не только к преждевременному старению кожи и развитию фотодерматита (аллергии к солнечным лучам), но и к снижению зрения и даже к онкологическим заболеваниям (раку кож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1042920" y="3284640"/>
            <a:ext cx="3056040" cy="3074760"/>
          </a:xfrm>
          <a:prstGeom prst="rect">
            <a:avLst/>
          </a:prstGeom>
          <a:ln w="0">
            <a:noFill/>
          </a:ln>
        </p:spPr>
      </p:pic>
      <p:sp>
        <p:nvSpPr>
          <p:cNvPr id="278" name="WordArt 6"/>
          <p:cNvSpPr txBox="1"/>
          <p:nvPr/>
        </p:nvSpPr>
        <p:spPr>
          <a:xfrm>
            <a:off x="2340000" y="620640"/>
            <a:ext cx="41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лнечный ожо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903600" y="134064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защитные кр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711240" y="3715560"/>
            <a:ext cx="46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отражающи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68360" y="530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ая причина солнечных ожогов - ажиотаж первого дня. Увеличивайте время пребывания на солнце постепенно: переходите от получаса на первый раз до не более чем 2 часа в день. Самое активное солнце с полудня до 2 часов, так что в это время лучше не загор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468360" y="191628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непроницаемые кремы содержат окисел цинка или диоксид титана, практически полностью блокирующие ультрафиолетовую радиацию. Они хороши для чувствительных участков кожи, таких, как нос и губ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419640" y="42919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содержат вещества, частично отражающие ультрафиолетовые лу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специальный аква гель от солнечныхожогов"/>
          <p:cNvPicPr/>
          <p:nvPr/>
        </p:nvPicPr>
        <p:blipFill>
          <a:blip r:embed="rId1"/>
          <a:stretch/>
        </p:blipFill>
        <p:spPr>
          <a:xfrm>
            <a:off x="1258920" y="3429000"/>
            <a:ext cx="1730520" cy="1627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солнцезащитный крем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724360" y="1413000"/>
            <a:ext cx="2170440" cy="2170080"/>
          </a:xfrm>
          <a:prstGeom prst="rect">
            <a:avLst/>
          </a:prstGeom>
          <a:ln w="0">
            <a:noFill/>
          </a:ln>
        </p:spPr>
      </p:pic>
      <p:sp>
        <p:nvSpPr>
          <p:cNvPr id="287" name="WordArt 10"/>
          <p:cNvSpPr txBox="1"/>
          <p:nvPr/>
        </p:nvSpPr>
        <p:spPr>
          <a:xfrm>
            <a:off x="154764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филактические сред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468360" y="5229360"/>
            <a:ext cx="8280360" cy="1368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611280" y="1341000"/>
            <a:ext cx="817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ПЛОВОЙ УДА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олезненное состояние, обусловленное общим перегреванием организма и возникающее в результате воздействия внешних тепловых факторов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4500720" y="2708280"/>
            <a:ext cx="43192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больного наблюдается чувство общей слабости, разбитости, головная боль, головокружение, шум в ушах, сонливость, жажда, тошнота. При осмотре выявляется гиперемия кожных покров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пр"/>
          <p:cNvPicPr/>
          <p:nvPr/>
        </p:nvPicPr>
        <p:blipFill>
          <a:blip r:embed="rId1"/>
          <a:stretch/>
        </p:blipFill>
        <p:spPr>
          <a:xfrm>
            <a:off x="1187280" y="2565360"/>
            <a:ext cx="2953080" cy="3457440"/>
          </a:xfrm>
          <a:prstGeom prst="rect">
            <a:avLst/>
          </a:prstGeom>
          <a:ln w="0">
            <a:noFill/>
          </a:ln>
        </p:spPr>
      </p:pic>
      <p:sp>
        <p:nvSpPr>
          <p:cNvPr id="293" name="WordArt 6"/>
          <p:cNvSpPr txBox="1"/>
          <p:nvPr/>
        </p:nvSpPr>
        <p:spPr>
          <a:xfrm>
            <a:off x="2556000" y="404640"/>
            <a:ext cx="3743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пловой уд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971640" y="191628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ного срочно выносят в прохладное место, обеспечивают доступ свежего воздуха, освобождают от одежды, дают выпить холодной воды, накладывают холодный компресс на гол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лее тяжелых случаях показано обертывание простыней, смоченной холодной водой, обливание прохладной водой, лед на голову и паховые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1692360" y="494172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не в коем случае нельзя давать алкоголь, напитки, содержащие теин и кофеин (чай, кофе, кака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5"/>
          <p:cNvSpPr txBox="1"/>
          <p:nvPr/>
        </p:nvSpPr>
        <p:spPr>
          <a:xfrm>
            <a:off x="2556000" y="404640"/>
            <a:ext cx="4211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971640" y="1844640"/>
            <a:ext cx="7056360" cy="2376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692360" y="4869000"/>
            <a:ext cx="597528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26920" y="1268280"/>
            <a:ext cx="21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ла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24000" y="1700280"/>
            <a:ext cx="59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получает ожоги, в основном, от загоревшейся одежды. Синтетические материалы расплавляются и проникают глубоко в кожу, и их потом очень тяжело отделить. Ожоги пламенем неравномерны, носят пятнистый характ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273528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3348000" y="3644640"/>
            <a:ext cx="5616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а хорошо впитывает воду, поэтому такие ожоги обычно большие, значительные по площади и больше, чем при первичном контак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9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8" name="Picture 12" descr="лд"/>
          <p:cNvPicPr/>
          <p:nvPr/>
        </p:nvPicPr>
        <p:blipFill>
          <a:blip r:embed="rId2"/>
          <a:stretch/>
        </p:blipFill>
        <p:spPr>
          <a:xfrm>
            <a:off x="1042920" y="3141720"/>
            <a:ext cx="1717920" cy="2232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3"/>
          <p:cNvSpPr/>
          <p:nvPr/>
        </p:nvSpPr>
        <p:spPr>
          <a:xfrm>
            <a:off x="755640" y="5516280"/>
            <a:ext cx="7559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Контакт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зникают в результате соприкосновения кожи с твердым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ами. Они возникают в 10% случ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755640" y="1988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у 71°С человек выдерживает в течение 1 часа, 82°С - 49 минут, 93°С - 33 минут, а 104°С - только 26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4284720" y="2852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28 году был описан случай 14-минутного пребывания мужчины в печи, где температура достигала 1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468360" y="5444640"/>
            <a:ext cx="84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наженном состоянии человек может выдержать быстрое нарастание температуры до 210°С, а в ватной одежде - до 2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4032360" y="400500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льгии в 1958 году был зарегистрирован случай, когда человек несколько минут находился в термокамере при температуре 200°С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ы"/>
          <p:cNvPicPr/>
          <p:nvPr/>
        </p:nvPicPr>
        <p:blipFill>
          <a:blip r:embed="rId1"/>
          <a:stretch/>
        </p:blipFill>
        <p:spPr>
          <a:xfrm>
            <a:off x="611280" y="2924280"/>
            <a:ext cx="3238560" cy="2185920"/>
          </a:xfrm>
          <a:prstGeom prst="rect">
            <a:avLst/>
          </a:prstGeom>
          <a:ln w="0">
            <a:noFill/>
          </a:ln>
        </p:spPr>
      </p:pic>
      <p:sp>
        <p:nvSpPr>
          <p:cNvPr id="306" name="WordArt 8"/>
          <p:cNvSpPr txBox="1"/>
          <p:nvPr/>
        </p:nvSpPr>
        <p:spPr>
          <a:xfrm>
            <a:off x="1835280" y="40464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акция организ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жаркую погоду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2627280" y="1413000"/>
            <a:ext cx="586908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Ожоги, возникающие при контакте с различными другими веществ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жирами, маслами. Ожоги небольшие по глубине и по площади, так как жиры и масла не растекаются по поверхности кожи, имеют пятнистый характер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042920" y="4365360"/>
            <a:ext cx="45356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жог вольтовой дугой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ходен с ожогом пламенем. Кожа становится черной из-за импрегнации металл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i"/>
          <p:cNvPicPr/>
          <p:nvPr/>
        </p:nvPicPr>
        <p:blipFill>
          <a:blip r:embed="rId1"/>
          <a:stretch/>
        </p:blipFill>
        <p:spPr>
          <a:xfrm>
            <a:off x="539640" y="1341360"/>
            <a:ext cx="170208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р"/>
          <p:cNvPicPr/>
          <p:nvPr/>
        </p:nvPicPr>
        <p:blipFill>
          <a:blip r:embed="rId2"/>
          <a:stretch/>
        </p:blipFill>
        <p:spPr>
          <a:xfrm>
            <a:off x="6012000" y="4221000"/>
            <a:ext cx="2590560" cy="16560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8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06440" y="3428280"/>
            <a:ext cx="58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5)Вязкие Вещест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смолой, гудроно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1979640" y="692280"/>
            <a:ext cx="496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00000" y="1989000"/>
            <a:ext cx="5759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7)Ожоги электрическим то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могут быть от молнии и бытовой (от электроприборов). Ожоги по площади незначительные, о глубокие, повреждаются мышцы и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молн"/>
          <p:cNvPicPr/>
          <p:nvPr/>
        </p:nvPicPr>
        <p:blipFill>
          <a:blip r:embed="rId1"/>
          <a:stretch/>
        </p:blipFill>
        <p:spPr>
          <a:xfrm>
            <a:off x="2987640" y="3573360"/>
            <a:ext cx="3371760" cy="25956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684360" y="1484280"/>
            <a:ext cx="59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8) Ожоги щелочью и кисл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щелочью значительно опаснее, чем кислотой, при котором происходит коагуляция белков и образуется корочка, струп, предотвращающая проникновение в глубокие сло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76720" y="3284280"/>
            <a:ext cx="568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9)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ванные алкалоидами растений, например относящихся к семейству лютиковых подснеж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826920" y="5229000"/>
            <a:ext cx="53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) Ожоги фосфором и изве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ь"/>
          <p:cNvPicPr/>
          <p:nvPr/>
        </p:nvPicPr>
        <p:blipFill>
          <a:blip r:embed="rId1"/>
          <a:stretch/>
        </p:blipFill>
        <p:spPr>
          <a:xfrm>
            <a:off x="971640" y="3213000"/>
            <a:ext cx="1917720" cy="1871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8"/>
          <p:cNvSpPr txBox="1"/>
          <p:nvPr/>
        </p:nvSpPr>
        <p:spPr>
          <a:xfrm>
            <a:off x="2124000" y="404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и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7" name="Picture 10" descr="известь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580000" y="4365720"/>
            <a:ext cx="2808360" cy="1854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P+O2"/>
          <p:cNvPicPr/>
          <p:nvPr/>
        </p:nvPicPr>
        <p:blipFill>
          <a:blip r:embed="rId3"/>
          <a:stretch/>
        </p:blipFill>
        <p:spPr>
          <a:xfrm>
            <a:off x="6516720" y="1557360"/>
            <a:ext cx="2089080" cy="1573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2124000" y="620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учевы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971640" y="1923120"/>
            <a:ext cx="655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1)Радиацион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ключаются в себя: ожоги УФ-излуч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ло"/>
          <p:cNvPicPr/>
          <p:nvPr/>
        </p:nvPicPr>
        <p:blipFill>
          <a:blip r:embed="rId1"/>
          <a:stretch/>
        </p:blipFill>
        <p:spPr>
          <a:xfrm>
            <a:off x="1403280" y="2997360"/>
            <a:ext cx="2808360" cy="280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4788000" y="285264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Ф-излучение вызывает 2 вида повреждений: рак кожи и подавление иммунной систе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ационное излучение оказывает основное действие на кроветворную, иммунную, центральную нервную систе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9640" y="1989000"/>
            <a:ext cx="2470320" cy="1598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191448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5796000" y="4005360"/>
            <a:ext cx="2468520" cy="15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012000" y="3645000"/>
            <a:ext cx="2009520" cy="2667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3203640" y="1483920"/>
            <a:ext cx="57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проявляются резко выраженной краснотой кожи и отеком тканей, сопровождаются жгучей болью и поражением верхних слоёв ко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276720" y="2492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- Кроме выраженных симптомов, отмеченных при 1степени, отмечается образование пузырей наполненных серозной жидк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68360" y="4142880"/>
            <a:ext cx="42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традают все слои ко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468360" y="48682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ное разрушение кожи и нижележащего мышечного сло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395280" y="566064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опровождаются некрозом более глубоких слоев тканей и обугливанием кожи или даже органа, омертвением не только кожи, но и глубжележащих тка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12"/>
          <p:cNvSpPr txBox="1"/>
          <p:nvPr/>
        </p:nvSpPr>
        <p:spPr>
          <a:xfrm>
            <a:off x="1619280" y="404640"/>
            <a:ext cx="5761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ификация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1187280" y="2205000"/>
            <a:ext cx="3529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лад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девя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Глубина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846760" y="1916280"/>
            <a:ext cx="1893960" cy="47527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042920" y="501336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площадь поражения кожи превышает 10% - следует ожидать развития ожогового ш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1619280" y="404640"/>
            <a:ext cx="57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определ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агноза нужно знать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1042920" y="5013360"/>
            <a:ext cx="0" cy="1079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1042920" y="6093000"/>
            <a:ext cx="38894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1042920" y="5013360"/>
            <a:ext cx="3889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4932360" y="5013360"/>
            <a:ext cx="0" cy="1079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06:16:37Z</dcterms:created>
  <dc:creator>Киска</dc:creator>
  <dc:description>dmsuslin.narod.ru</dc:description>
  <dc:language>en-US</dc:language>
  <cp:lastModifiedBy>LEGION</cp:lastModifiedBy>
  <dcterms:modified xsi:type="dcterms:W3CDTF">2015-05-12T08:17:55Z</dcterms:modified>
  <cp:revision>17</cp:revision>
  <dc:subject/>
  <dc:title>Ожог на кож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05000000000001024140</vt:lpwstr>
  </property>
</Properties>
</file>